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904-34E2-44F9-A2B3-94204B06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E0E3-8562-4D21-BB3E-D71C687C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3C4-6347-497B-BAEA-98A95723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90BC-D106-4729-A8E9-ED7875DC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0B76-5879-4ECF-A990-D47C1402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FF67-C1B0-4D60-B5E2-FFD8C344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6556-275A-4018-8AC8-63FCD7CF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88B7-9BAE-4BD7-8435-4BF6801C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5A7C-874C-4709-9444-68425B16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A030-28FD-4C45-AE76-C8E5F5FF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AF6D-AD81-4ADB-BE5E-85C09365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790-97EB-42F8-9F18-0AD2A418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3E69-3E71-43F8-B145-E2A7D673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1AB7-943F-45BC-B4EB-000402BC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3495-C9B9-4D23-9F9C-6CFBE705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64E7-BCAF-4FFE-9CBD-20BC36AD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1BBA-C232-4C64-B212-E189EF9D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7EE-5587-4731-8EB1-4757297B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EE1-9DD3-4EC6-A3AC-0A9AD2C7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122-BE28-47EF-AB0A-EE421C9E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DB0-09E9-43F0-BDCB-7915FB6A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C6E-1D25-40A8-8138-2E800A1C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37B-E6C4-4D65-A523-77E21399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1E1-24A0-436B-86E7-658CDD82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2E46-00FA-4993-A1D6-C3FB72245F3A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C8ED-72A3-433C-9D3E-A6E011D2F039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21CA-0EB8-44F5-9FD1-7AC9512C52EF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FB60-98F9-4FA1-B6AB-CC99D8CCEA4C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zročnost u epidemiologij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9966"/>
                </a:solidFill>
                <a:latin typeface="Tahoma"/>
              </a:rPr>
              <a:t>Branislav Petrović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F23A-6A76-4E89-9FAD-13E876E7169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822163C-B5F1-4F21-BE29-0B0F41ACBE30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294920" y="533160"/>
            <a:ext cx="7086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Neophodan uzrok</a:t>
            </a: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 – obavezno prethodi bolesti </a:t>
            </a:r>
            <a:r>
              <a:rPr b="1" i="1" lang="sl-SI" sz="1800" spc="-1" strike="noStrike">
                <a:solidFill>
                  <a:srgbClr val="ff0066"/>
                </a:solidFill>
                <a:latin typeface="Tahoma"/>
              </a:rPr>
              <a:t>(nema obolevanja od ptičjeg gripa ako nema virusa ptičjeg grip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Tahoma"/>
              </a:rPr>
              <a:t>Dovoljan uzrok</a:t>
            </a:r>
            <a:r>
              <a:rPr b="1" lang="sl-SI" sz="1800" spc="-1" strike="noStrike">
                <a:solidFill>
                  <a:srgbClr val="ffffff"/>
                </a:solidFill>
                <a:latin typeface="Tahoma"/>
              </a:rPr>
              <a:t> – skup, obično, nekoliko faktora koji obavezno dovode do pojave bolesti ili stanja. U dovoljan uzrok uvek je uključen i neophodan uzrok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cc00"/>
                </a:solidFill>
                <a:latin typeface="Tahoma"/>
              </a:rPr>
              <a:t>Neophodan uzrok = bolest (virus morbila kod neimunizovane dece uvek izaziva morbi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cc99"/>
                </a:solidFill>
                <a:latin typeface="Tahoma"/>
              </a:rPr>
              <a:t>Neophodan uzrok + ? = Bolest (Bacil TBC + socijalni faktori = tuberkuloz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0066"/>
                </a:solidFill>
                <a:latin typeface="Tahoma"/>
              </a:rPr>
              <a:t>Neophodan uzrok = Bol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0066"/>
                </a:solidFill>
                <a:latin typeface="Tahoma"/>
              </a:rPr>
              <a:t>Drugi uzroci = Bolest ( Bolest je izazvana većim brojem neophodnih uzroka: uvećanu slezinu izazivaju i kala-azar i leukemije, kompresije</a:t>
            </a:r>
            <a:r>
              <a:rPr b="0" lang="sl-SI" sz="2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sl-SI" sz="2000" spc="-1" strike="noStrike">
                <a:solidFill>
                  <a:srgbClr val="ff0066"/>
                </a:solidFill>
                <a:latin typeface="Tahoma"/>
              </a:rPr>
              <a:t>stomačnih ven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99cc"/>
                </a:solidFill>
                <a:latin typeface="Tahoma"/>
              </a:rPr>
              <a:t>Nije neophodan uzrok + ? +? = bolest  (hipertenzija ne izaziva obavezno koronarnu bolest srca, ali udružena sa hiuperlipidemijom, stresom, šećernom bolešću i drugim faktorima dovodi do koronarne bolest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F0FA-0A1C-42C6-91E6-67A6A087E9F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47FA6-0CD2-46C9-B257-8C5F0DB1C6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10663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Kriterijumi uzročne povezanosti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Jedan od glavnih ciljeva u epidemiologiji je </a:t>
            </a:r>
            <a:r>
              <a:rPr b="0" lang="sl-SI" sz="2400" spc="-1" strike="noStrike">
                <a:solidFill>
                  <a:srgbClr val="ffcc66"/>
                </a:solidFill>
                <a:latin typeface="Tahoma"/>
              </a:rPr>
              <a:t>UTVRDJIVANJE UZROČNIH VEZ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zročnost je najlakše utvrditi u eksperimentu (pod uslovom da se ne nanosi šteta ljudima) – eksperimenti vezani za preventivne m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zročnost u nastanku bolesti se utvrdjuje neeksperimentalnim studijama (deskriptivnim i analitički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2E0-A8F6-4FD3-A0F1-CDD83C477E4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E4560-B325-4F22-AC01-2CF0EAF603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HILOVI POSTULATI UZROČNOS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l-SI" sz="2800" spc="-1" strike="noStrike">
                <a:solidFill>
                  <a:srgbClr val="ffcc66"/>
                </a:solidFill>
                <a:latin typeface="Tahoma"/>
              </a:rPr>
              <a:t>Konzistentnost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– do istog nalaza dolazi veći broj istraživač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sl-SI" sz="2800" spc="-1" strike="noStrike">
                <a:solidFill>
                  <a:srgbClr val="ffcc66"/>
                </a:solidFill>
                <a:latin typeface="Tahoma"/>
              </a:rPr>
              <a:t>Jačina povezanosti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– Što je veća razlika u obolevanju izmedju izloženih osoba i neizloženih to je veća jačina povezanosti (pušači 60 puta češće boluju od raka pluća nego nepušač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sl-SI" sz="2800" spc="-1" strike="noStrike">
                <a:solidFill>
                  <a:srgbClr val="ffcc66"/>
                </a:solidFill>
                <a:latin typeface="Tahoma"/>
              </a:rPr>
              <a:t>Specifično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– Jedan jedini faktor dovodi do jedne bolesti (virus besnila izaziva samo besnilo). Najmanje pouzdano – proliv izazivaju mnogi uzročnici i fakto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CF7-B940-4818-8DF0-317499728F5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5A46A-7BB6-4F56-ABAE-6356DCA407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18960" y="838080"/>
            <a:ext cx="7086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Odnos do</a:t>
            </a:r>
            <a:r>
              <a:rPr b="0" lang="sl-SI" sz="2200" spc="-1" strike="noStrike">
                <a:solidFill>
                  <a:srgbClr val="ffcc66"/>
                </a:solidFill>
                <a:latin typeface="Tahoma"/>
              </a:rPr>
              <a:t>z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e i efekta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sl-SI" sz="2200" spc="-1" strike="noStrike">
                <a:solidFill>
                  <a:srgbClr val="ffffff"/>
                </a:solidFill>
                <a:latin typeface="Tahoma"/>
              </a:rPr>
              <a:t>što je pretpostavljeni uzrok duže prisutan i što je stepen izloženosti intenzivniji verovatnoća efekta je veća (rizik za pojavu apopleksije je srazmeran visini krvnog pritiska i dužini hipertenzije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sl-SI" sz="2200" spc="-1" strike="noStrike">
                <a:solidFill>
                  <a:srgbClr val="ffcc66"/>
                </a:solidFill>
                <a:latin typeface="Tahoma"/>
              </a:rPr>
              <a:t>Vremenski sled</a:t>
            </a:r>
            <a:r>
              <a:rPr b="0" lang="sl-SI" sz="2200" spc="-1" strike="noStrike">
                <a:solidFill>
                  <a:srgbClr val="ffffff"/>
                </a:solidFill>
                <a:latin typeface="Tahoma"/>
              </a:rPr>
              <a:t> – Pretpostavljeni uzrok mora da prethodi posledici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sl-SI" sz="2200" spc="-1" strike="noStrike">
                <a:solidFill>
                  <a:srgbClr val="ffcc66"/>
                </a:solidFill>
                <a:latin typeface="Tahoma"/>
              </a:rPr>
              <a:t>Biološka prihvatljivost (koherentnost)</a:t>
            </a:r>
            <a:r>
              <a:rPr b="0" lang="sl-SI" sz="2200" spc="-1" strike="noStrike">
                <a:solidFill>
                  <a:srgbClr val="ffffff"/>
                </a:solidFill>
                <a:latin typeface="Tahoma"/>
              </a:rPr>
              <a:t> – Uzročna povezanost je u skladu sa postojećim biomedicinskim shvatanjim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sl-SI" sz="2200" spc="-1" strike="noStrike">
                <a:solidFill>
                  <a:srgbClr val="ffcc66"/>
                </a:solidFill>
                <a:latin typeface="Tahoma"/>
              </a:rPr>
              <a:t>Eksperiment</a:t>
            </a:r>
            <a:r>
              <a:rPr b="0" lang="sl-SI" sz="2200" spc="-1" strike="noStrike">
                <a:solidFill>
                  <a:srgbClr val="ffffff"/>
                </a:solidFill>
                <a:latin typeface="Tahoma"/>
              </a:rPr>
              <a:t> – potvrda je moguća samo ako se radi o preventivnim meram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ff"/>
                </a:solidFill>
                <a:latin typeface="Tahoma"/>
              </a:rPr>
              <a:t>8. </a:t>
            </a:r>
            <a:r>
              <a:rPr b="0" lang="sl-SI" sz="2200" spc="-1" strike="noStrike">
                <a:solidFill>
                  <a:srgbClr val="ffcc66"/>
                </a:solidFill>
                <a:latin typeface="Tahoma"/>
              </a:rPr>
              <a:t>Analogija</a:t>
            </a:r>
            <a:r>
              <a:rPr b="0" lang="sl-SI" sz="2200" spc="-1" strike="noStrike">
                <a:solidFill>
                  <a:srgbClr val="ffffff"/>
                </a:solidFill>
                <a:latin typeface="Tahoma"/>
              </a:rPr>
              <a:t> – ako neki agens izaziva bolest, pretpostavka je da slični agens izaziva tu istu bolest (olovo oštećuje bubrege, a pošto je kadmijum sličan olovu i on može oštetiti bubrege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D07-5393-4D21-A96C-84C1442123F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C9848-DFA6-41AB-991A-5CF8249E85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Definicij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cc00"/>
                </a:solidFill>
                <a:latin typeface="Tahoma"/>
              </a:rPr>
              <a:t>Uzrok  (Agens)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– to je činilac koji je neophodan za pojavu odredjenog ishoda (bolest, povreda). Medjutim, njegovo delovanje nije uvek dovoljno samo po sebiv, već su potrebni i dodatni uslov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66"/>
                </a:solidFill>
                <a:latin typeface="Tahoma"/>
              </a:rPr>
              <a:t>Uzrok za oboljenje male boginje je virus malih boginja, ali da bi oboljenje nastalo potrebno je da su prisutne sve karike lanca infekcij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cc00"/>
                </a:solidFill>
                <a:latin typeface="Tahoma"/>
              </a:rPr>
              <a:t>Faktor rizika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– povećava verovatnoću nastanka odredjene posledice (bolesti), ali nema odlučujuću i ekskluzivnu ulogu u nastanku bole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66"/>
                </a:solidFill>
                <a:latin typeface="Tahoma"/>
              </a:rPr>
              <a:t>Faktor rizika za nastanak raka pluća je pušenje, ali pušenje ne dovodi uvek do nastanka raka pluć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176-291D-4230-A363-A15B2A8C29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770E8-BDCE-4CC0-88AA-BD92A31147F4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Uzrok - Age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Obično se koristi u epidemiologiji zaraznih bolesti, bolesti zavisnosti i povre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66"/>
                </a:solidFill>
                <a:latin typeface="Tahoma"/>
              </a:rPr>
              <a:t>Virus gripa izaziva gr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66"/>
                </a:solidFill>
                <a:latin typeface="Tahoma"/>
              </a:rPr>
              <a:t>Alkohol izaziva alkoholiz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66"/>
                </a:solidFill>
                <a:latin typeface="Tahoma"/>
              </a:rPr>
              <a:t>Mehanička sila izaziva povred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44C-D70C-4FF5-9C76-EF04865DD5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CAF8F-01B4-458C-ABE7-F9EBE1C9A6C8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Faktor rizik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Koristi se u epidemiologiji nezaraznih bolesti, čiji su “uzroci” mnogobrojni i koji deluju zajedno (istovremeno ili sukcesivn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66"/>
                </a:solidFill>
                <a:latin typeface="Tahoma"/>
              </a:rPr>
              <a:t>Pušenje, gojaznost i hipertenzija su faktori rizika za nastanak moždanog udara, ali on nastaje i kod mršavih, nepušača i onih koji imaju normalan pritis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52F8-86DC-4307-A29A-82E6AD85C75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8B6B1-39F0-46AD-8E80-C57BFE52AAF5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Vrste (tipovi) povezanos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Odnose se na uzročno-posledičnu povezano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66"/>
                </a:solidFill>
                <a:latin typeface="Tahoma"/>
              </a:rPr>
              <a:t>Na rok koncertu toplotni udar više dobijaju uniformisani čuvari, policajci i drugo osoblje koje održava red, a manje razgolićeni slušaoci. Dakle, preobučenost ima za posledicu pojavu toplotnog udar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66"/>
                </a:solidFill>
                <a:latin typeface="Tahoma"/>
              </a:rPr>
              <a:t>Osobe koje bosonoge hodaju oko javnog bazena češće dobijaju gljivična oboljenja od onih koji nose papuče. Dakle, hodanje bos ima za posledicu pojavu gljivičnih oboljenja staopala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 PRAKSI JE OVE VEZE TEŽE OTKRIRI, ALI PRINCIP JE I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615-0D7F-4816-BE52-EB0F4DF3E28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A2369-FC79-425A-ADF5-90FA124C71B9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POVEZANO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 Ne postoji povezanost – dve pojave nisu ni u kakvoj vezi, svaka ima različite uzroke, učestalost i tre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66"/>
                </a:solidFill>
                <a:latin typeface="Tahoma"/>
              </a:rPr>
              <a:t>Stepen ateroskleroze ne zavisi od boje očiju ili dužine brko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32F4-5AF6-49EC-B013-9126432E081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A1CCF-FAB1-4B63-9F50-B5CFBBD7BFDF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II Postoji statistička povezano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cc66"/>
                </a:solidFill>
                <a:latin typeface="Tahoma"/>
              </a:rPr>
              <a:t>A. Povezanost je neuzročna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- postoji statistički značajna veza, ali ona nije naučno i logično relevantna, već je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cc66"/>
                </a:solidFill>
                <a:latin typeface="Tahoma"/>
              </a:rPr>
              <a:t>Slučajna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0066"/>
                </a:solidFill>
                <a:latin typeface="Tahoma"/>
              </a:rPr>
              <a:t>(Za vreme propagandne aktivnosti jedne partije povećan je broj porodjaja; ove dve pojave nisu u uzročnoj vezi već slučaj puke – koincidencije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cc66"/>
                </a:solidFill>
                <a:latin typeface="Tahoma"/>
              </a:rPr>
              <a:t>Sekundarna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– dve pojave nisu u istoj vezi, ali su obe posledica nekog trećeg dogadjaja </a:t>
            </a:r>
            <a:r>
              <a:rPr b="0" lang="sl-SI" sz="2400" spc="-1" strike="noStrike">
                <a:solidFill>
                  <a:srgbClr val="ff0066"/>
                </a:solidFill>
                <a:latin typeface="Tahoma"/>
              </a:rPr>
              <a:t>( Tamo gde se češće javljaju promrzline češće su i depresije; dakle ove dve pojave su u medjusobnoj uzročnoj vezi, što je pogrešno: i depresije i promrzline su posledica hladnog, vlažnog i tmurnog vreme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72F4-C174-4E96-BE33-0CED4B38031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E4617-7FE4-4406-B45C-E263EC2BE344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Uzročna povezano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66"/>
                </a:solidFill>
                <a:latin typeface="Tahoma"/>
              </a:rPr>
              <a:t>Indirektn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66"/>
                </a:solidFill>
                <a:latin typeface="Tahoma"/>
              </a:rPr>
              <a:t>Prelom kosti dovodi do atrofije mišića, ali ne direktno već zbog stavljanja gipsa (imobilizacije) i neaktivnosti ekstremite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66"/>
                </a:solidFill>
                <a:latin typeface="Tahoma"/>
              </a:rPr>
              <a:t>Direkt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66"/>
                </a:solidFill>
                <a:latin typeface="Tahoma"/>
              </a:rPr>
              <a:t>Ujed pčele izaiva otok i svrab, a ruptura aorte dovodi do trenutne smrt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4ED-B736-4451-89CA-28E67DB0F3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AC40B-343C-4CE0-86AE-D35A1D1AED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Tahoma"/>
              </a:rPr>
              <a:t>Neophodni i dovoljni uzro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66"/>
                </a:solidFill>
                <a:latin typeface="Tahoma"/>
              </a:rPr>
              <a:t>Princip višeuzročnosti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– jedna bolest (stanje) uvek je posledica dejstava više faktora a ne samo jednog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66"/>
                </a:solidFill>
                <a:latin typeface="Tahoma"/>
              </a:rPr>
              <a:t>sva nevakcinisana deca izložena virusu velikih boginja ne obole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66"/>
                </a:solidFill>
                <a:latin typeface="Tahoma"/>
              </a:rPr>
              <a:t>čovek se nije utopio samo zbog toga što je neplivač, već i zbog toga što plaža nije bila obezbedjena, spasioci su bili daleko, voda je napravila vrtlog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328-385E-4B1F-BC8C-053BBEE2D1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9F3D8-5DA9-495C-930C-897D0FB639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b</cp:lastModifiedBy>
  <dcterms:modified xsi:type="dcterms:W3CDTF">2005-10-14T08:50:49Z</dcterms:modified>
  <cp:revision>3</cp:revision>
  <dc:subject/>
  <dc:title>PowerPoint Presentation</dc:title>
</cp:coreProperties>
</file>